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CC5-E7B0-49CB-8911-DCEB328A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54C-4AC0-4A8D-B73D-5812F3F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9AA-EFEE-428F-9898-08BAD20F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C7B-C5A3-42FE-9644-E1EFD961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E85-A78F-4864-8FEC-1A0C14AE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1A0-B3F5-4DE2-B799-34D45D7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795-8CB1-4B00-A924-6F27DDEC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28E-5B37-416F-993F-C42564DA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6D3-33FD-494E-97E8-DD7ED6B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D45-7C65-41E8-B5F4-0C472B5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419-DA01-45C2-BFEE-19910B3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9A5-7222-434E-87CF-293E442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7CFF-8C27-471B-AB61-C56695D3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psico.com/images/content_brand_gatorade_block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elebritydietdoctor.com/wp-content/uploads/2007/08/gatorad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5253120"/>
            <a:ext cx="2590920" cy="1620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Jessica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12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Per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52280"/>
            <a:ext cx="71629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03920"/>
            <a:ext cx="5867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Free Play Music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Preview File,</a:t>
            </a: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 12/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6483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6483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Invented by: Robert 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4724280"/>
            <a:ext cx="3581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1"/>
              </a:rPr>
              <a:t>http://www.pepsico.com/images/content_brand_gatorade_block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 PESPICO 12/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gatorade.jpg"/>
          <p:cNvPicPr/>
          <p:nvPr/>
        </p:nvPicPr>
        <p:blipFill>
          <a:blip r:embed="rId2"/>
          <a:stretch/>
        </p:blipFill>
        <p:spPr>
          <a:xfrm>
            <a:off x="0" y="0"/>
            <a:ext cx="5334120" cy="456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8769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4952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3"/>
              </a:rPr>
              <a:t>http://www.celebritydietdoctor.com/wp-content/uploads/2007/08/gatorade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 Diet Gatorade 12/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617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*Gatorade was an alternative for Juice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66ff33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66ff33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There is more then 15 Gatorade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gained instant notoriety and garnered media interest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became a house hold object when the tradition of pouring a jug of Gatorade on the winning teams coache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was as well on its way to world wide sales as PESPI Co. in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ventor: Robert Ca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born in 19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lived in Flo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trained at the university of Texas medical school in Dallas as an internist and nephr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working as a medical researcher at the university of Florida when a football coach there became frustrated because his players were un able to stay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suggested juice to keep the players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has developed products similar to Gatorade such as Go Energy Recovery Shake.</a:t>
            </a:r>
            <a:r>
              <a:rPr b="0" lang="en-US" sz="2800" spc="-1" strike="noStrike">
                <a:solidFill>
                  <a:srgbClr val="66ff33"/>
                </a:solidFill>
                <a:latin typeface="Bernard MT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9T14:51:31Z</dcterms:modified>
  <cp:revision>10</cp:revision>
  <dc:subject/>
  <dc:title>Slide 1</dc:title>
</cp:coreProperties>
</file>